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2A5-F176-44C9-9012-8C566950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BD7-F605-4369-9FCA-139398E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7D0-B0C9-4889-85D7-28A17994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A7C-E5EE-4048-88E8-F3B2C981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22D2-18F5-4330-8F46-12773284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C768-5A46-4F0E-86CD-71172F0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049-80AF-4531-88C1-B59A3536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979B-D1C5-4B28-9986-D975C486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F1FD-C33B-4EB3-86F8-D596975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E38-6DCF-4ED0-9B63-0574ED33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C5F-BA09-4BFE-A18C-5D03E6B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1F1-67C0-4A75-9683-5CF5C3F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FFF-753A-4F01-B8CE-4DC833C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F5F9-016E-49C1-B87D-3BD6966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8BD2-846D-44E4-A54E-01CA362F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1BCF-5BDA-41E2-8AD7-EA9A8C88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4F80-A73A-4DB8-85AA-01B2EFA4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7477-A2C3-4AD9-AF7A-5DC1535B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2712-B0C5-4F20-9868-FD04FAA8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715A-8028-48D6-B2F1-80038CAB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2FAC-88A2-4950-827A-707179F1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6849-3341-413F-8329-7771EF98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DAF-F08D-4B03-B41D-8F83368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27F0-A601-4452-B91E-8130DDA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CAB6-B211-4ABD-A6EC-6A39B76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0CE8-8AA9-4D11-A97D-153259F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4224-6DA1-4576-B308-DA2E0D4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E629-3D4E-409B-A788-13F504F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A8AF-6B11-4E3A-B0F4-8422AB78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BA4D-6BCF-497D-BB70-CC80C923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4E1-E567-436E-888D-C062200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876-FFF2-41D3-A27B-381B277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4FF-CA37-4A60-AA35-746D8D6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F0B-3B9A-4E54-850A-26F42B9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E39-8108-46B3-8A03-BF99030F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191-8477-4602-9FFA-8FB9869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9A9-1D6B-4F16-A030-2A6C533F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D014-15C0-45DE-8D31-B180CB7EC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54C-F109-427E-81E3-5511C8EC4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ANd9GcQcrLn_8kFaNQxPHbVJx2lUYqlxmlgZ7rCuaBFXoMyjKkXiL87v"/>
          <p:cNvPicPr/>
          <p:nvPr/>
        </p:nvPicPr>
        <p:blipFill>
          <a:blip r:embed="rId1"/>
          <a:stretch/>
        </p:blipFill>
        <p:spPr>
          <a:xfrm>
            <a:off x="2843280" y="2060640"/>
            <a:ext cx="4105080" cy="4537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e22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d5e22c"/>
                </a:solidFill>
                <a:latin typeface="Arial"/>
              </a:rPr>
              <a:t>Тема урока –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амые знакомые и самые таинственные сущест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06:00:02Z</dcterms:created>
  <dc:creator>Klass11</dc:creator>
  <dc:description/>
  <dc:language>en-US</dc:language>
  <cp:lastModifiedBy>Преподаватель1</cp:lastModifiedBy>
  <dcterms:modified xsi:type="dcterms:W3CDTF">2013-06-13T07:29:44Z</dcterms:modified>
  <cp:revision>3</cp:revision>
  <dc:subject/>
  <dc:title>Слайд 1</dc:title>
</cp:coreProperties>
</file>